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851-59A5-4731-AB6D-5EF03531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47F-57B3-42E9-9D7C-34A48A8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9858E-2770-4C12-8929-5D40C338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7C32C-2C56-480B-96D6-3CE83DAE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B3B9-FC01-4A09-967A-9437ED0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61A91-31ED-4300-94F8-90B95CA5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2E71-7A86-4A01-A2CA-A400818E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C7EA-E8DF-459A-9631-957A1B4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779BD-A78E-4A7A-AFFC-FD2ACA7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5EFA1-A619-4067-85C7-F551C19B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6EAE8-2DE0-448C-839D-0D095C0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5DDF8-3862-4118-A37D-29B31B21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D75-CCB0-49B9-A9A6-4EB86BAC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5A0DA-FBB1-480E-BD8F-5225C98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57FEF-9CCB-4B00-87EA-BD06D890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686E1-E8E4-46D6-84A4-6D27FE7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F44FF-2CCD-4F9B-B321-64664C84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ECFD-15D4-444A-9683-1E484A8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5447D-FFB0-401E-8A1C-B823CF7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BCBA8-BD05-42AC-8040-559D704A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D0DDE-A08E-480D-8DA0-1A63A29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8A223-5066-41C7-9C1C-84F73BB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5FE52-71D5-4C69-BC97-DE03D39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6C7-C105-4C56-BA82-7B556839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3DAF-3438-4937-8F94-15F99F04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FC7BC-B721-4561-9C20-A62369C9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DED5-39E7-4C91-B651-C848D6C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7462-114D-4452-8521-CD0C9F7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E06FF-9D7D-4EDE-B375-E3C7395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7C5BF-E64C-4B50-BEED-2E51F2B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DDB6C-732D-4BF8-A86C-1B9CCA74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FD197-188B-419E-9935-C757482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256B9-5E6B-41AD-9CC8-0141B48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FD7A-5C5A-4B4B-913C-A0009EDB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AB4-A1F1-4856-88B5-B5043030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4A7D5-4FA7-406B-A8C2-27FDC22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89B0F-ED3C-4B95-BE05-7CEBAB7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CCF7-9743-4E32-ADF3-837C0B7F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024FA-6B37-47AA-9E8F-006078E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2A16B-12A2-4A58-9F40-D5640D8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76C8-FF6A-433F-B008-55CAFE74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9038A-50D3-4EFB-AED5-895D284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C688D-36C2-49B7-BE41-800DDBA4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5A558-8960-4A66-B1E4-318B414C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5EC03-35B9-4456-B74C-4108E16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955E-46D2-4011-B652-1DEACEDF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A3308-0C37-43A1-BE10-DCFC47C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80A95-9D81-4B16-BC19-85238345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4BD65-F940-497E-A65D-034B9C7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7B5FC-4650-4E0E-B3F6-C03F620C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A8BB4-7C69-42D6-B5CE-11B466ED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742EF-071F-416D-93C3-8724D1EB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3B28D-2F7D-4E17-AFDB-2712073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1804B-45AA-4266-807A-A84DF296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065C6-D59F-440C-BB0F-703C8D0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3C290-33AD-4984-9A6B-86FB9E9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74A-6CB4-4F47-996B-81EBE1E1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55DA1-A343-4E23-AA91-8C46962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3A8B5-DDC0-42C2-8BB2-26233CF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E3133-F01B-4BB4-9E7A-13CFE86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0AD1D-EDBB-4224-BAD2-3FDFA2F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7B953-5484-41E3-90B7-E032F5E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F4F52-6467-48E0-B3F1-89378864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053B1-BE15-4A0C-84C9-92C5D3D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608ED-333E-4A4C-8783-88F4DC7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A7AF-4438-4E31-BE34-3D47C34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C809D-5037-4417-B852-6A58CF4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F926-78D0-471C-83BF-F0A1F5F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B24CB-149A-473A-B08D-3CEF405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189CB-2BB6-4013-94C3-6A981BD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7DC84-9BFC-4C27-8B5F-6E47B8E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870A8-CB81-4641-B9DD-EAC7684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55B58-DFB6-4E76-AA0A-A137CED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1E2D9-46B6-46C8-BCC1-253203EE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D55E8-EBCF-48E9-AC84-2B872257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FB17E-EB52-4AD0-AEEB-7482B50C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21B3C-36B4-4A75-8173-E55FB886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85240-B783-4B20-82A8-D4B06B2A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8133-DBED-4DA8-BF42-443DE7D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518EE-BC51-4D56-9DFA-6A2BC77D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B46F3-0C44-442E-B6B8-C36FB4C9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A0716-58ED-4B20-BDBC-C4C4247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E29BA-6B91-451A-897D-EBDCA160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0E726-3041-4971-8428-3733264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87EE6-1584-46F0-83D0-96AAFE6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859DD-5EBE-4D8E-947A-D4BCF1F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48170-7E8C-48EB-B776-67BA1C0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66FE3-C2B0-4896-BE55-BFD05ED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CA741-A551-4C7C-BE5F-485871F7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7ED2-F9FB-480A-8FBB-852C6DC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23E27-1FE0-4DE0-80D2-412F3E14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DB0DB-8CC4-4E26-96CA-66934B07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9A376-16F4-406A-B514-244CDE0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5E593-88DE-4E5C-9C13-48F047AE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77C90-1BA7-4D76-A78F-FFBD8899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E6C45-028B-4578-9819-A5E8D649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57BEB-1484-413C-A37A-998AB57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5FF3D-6C76-4593-8A0A-E26BEC86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2A0DF-E725-42C8-B9B9-618C651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EBFD2-8151-49CB-A32F-A5616EF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B67-C96B-48D8-B18D-A825CAD8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C5913-A725-4C81-A855-BD051A8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FEB10-BF79-49E8-AAB9-FC625DA2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AB907-530F-4408-9C2C-0741021B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3C669-31F6-44C2-9E5F-B5156711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75811-381E-4A61-B0A4-4D680A9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1E0AB-5B87-4ECA-9281-CFDB2621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6A7B9-F453-4583-A011-706FCC0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E7E5A-308D-4C60-B6D8-AF3BC85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27703-4400-4690-899C-7B1E940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0DD25-0BAF-442D-8999-50814E9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DCC-1CF8-4607-BC50-D76566D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C98A-1BB6-4E55-918D-3B8F9DC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85709-CBF6-4788-8B74-015AF21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41125-7CA9-46D7-B856-1B04B14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713AE-917C-492B-BFB3-E4257DB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862A7-4EC8-441B-A812-8F773475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F5BD6-878B-488F-8EA8-915A5983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4384A-603C-401B-983E-0CA9B858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41DCF-486C-4AA1-841C-98417391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6C181-1907-4D27-AF18-4B2B7DD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B7ACA-EBD9-4203-9242-5811A05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E8446-86B6-4254-9F54-D1C581F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5E44-6803-4898-BA16-E4161D1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C80C1-0FC9-4511-AF4B-4718974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5EDBA-B68B-4DAF-A98F-C59ACDB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A4CE9-D888-456A-A0A8-AFC4CF9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C5F8D-AA00-47DB-9818-ACC8890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10ECE-CA24-43CC-BC11-D541968D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D1372-0DB6-4A6D-9C94-2E201FB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9E962-859B-44B6-B6FB-C66BE533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E9567-277B-4B5B-A899-7C1F1D1A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404DC-7AB1-44D3-8FAD-1414933B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057DF-2EF5-4D33-A6FC-AF6BB6F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1B1D-736F-4935-9794-0975D7D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E84CA-7B38-4E76-BE88-606C1A9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B74C1-2282-4C07-939F-25C7842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E80B1-A095-4A23-92A2-C860BEF5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916B8-95BB-4D08-9FD6-BF951B2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B2089-EA28-44D0-BDBB-4AD09CB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F7921-55EA-42EE-91AC-9C25C51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6242F-77E2-45EE-9122-39494AC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29118-43CA-4822-A6D9-750E2C8E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DEA22-A0B1-4A06-ACC7-2ECE0F0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D6498-BE6C-408E-B18A-9CCDBC20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21C1-DC3D-462A-991F-AD959D13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C07E6-F95A-4C97-9F46-A75BBF66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CA955-95E9-40FC-A8C8-38A3380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721A8-C549-49D8-8CEE-BDA58AE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72AFB-4738-4835-8860-A3ED0C9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B427C-76E4-4384-A601-93D29A1F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9AD76-7DFB-4E1D-BBD8-98D8F2E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D7F9A-9DD0-4266-9E17-61B8109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2C206-A347-44F0-8BE7-36336B4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BFD02-F715-434C-AFFE-80A630EF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5A30C-D77B-4D24-B11D-88A9A9F8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B4A-0B56-46A5-8D27-EC471E99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5A321-A20B-4357-AEB7-A8B2351F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997E4-6800-430E-94AC-EB8131A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E81721-8EDA-48ED-A3B7-F3280E1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B09D1-A642-4548-B0B4-BEC89341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9350B-4B5A-4125-B834-965EDA6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F0CE2-9685-4013-9321-129ED3DB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845B5-1FB6-47F1-9E0E-DE42ABD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5B0D3-4410-43CF-ACF0-9581DD2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F5E77-D4E6-45AF-B36B-33CA238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EEE54-2E1E-44F4-AA60-C00131A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B29A-9919-46C5-AD07-04F703BD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4E572-4240-40EE-BD05-B23AA31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A582A-610B-4295-9B0F-D4740F46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DDB2A-525A-4674-BE14-73295F87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9DD2-85A7-4640-AA68-03CFF69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28F0-4C7F-40E5-AAAB-428B90CD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AAFE-9031-4109-B572-3A5E839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59DA-4018-494D-A66D-60E9566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223-1938-462C-8D81-EE5BE04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18B1-1E2A-4447-B5A4-357DBCA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0BA9-4C86-4783-BC3D-6257694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06F6-8FD5-4F48-8B0E-C655739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4C97-914E-46E4-9A2F-EF392CE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C786-2D4E-43B0-BBD6-3D05F67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384C-AD0C-40BD-9396-E37FB1E6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6644-97BB-4C20-8A98-F79BB99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4211-A996-4728-AD23-F39AFBF4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A187B-5BD5-41EB-8192-3B8070E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9760-9E63-4FB6-823C-0B97A67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D9F-704C-4FB9-8C63-C9F30BA9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1CAF-D73F-42E0-B7C7-94AA7FA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C40D-FA2B-4679-8FFA-D12E13C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FF2E-5A84-4B2A-ACF0-4E419E1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4F44-2BDD-41E9-89B6-15ED674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1AAD-0F8C-4835-89A4-CCA5BE7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1663-6A81-4D47-BC57-3309A59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94E7-4BB0-43ED-91A1-CADB00CC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D9A4-E5E0-46D9-8736-BA3C51BC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6D1D-9447-4D60-BC20-F1B44A10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005D-D44D-4EC6-80C5-7E4C4BF7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291-B7F9-4214-AAE5-833BBE4A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F9B7-482F-4A6D-98AF-15E2712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780E-12D1-4A8F-B9D3-A1E0AEE7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D3A6-BD93-4F3D-ADF5-F8709CBE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B797-4EBC-44BB-BD16-ABEBFFE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3E90-FD2D-41EA-9192-B0C2D752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F41B-8E9D-41AD-83C6-A9CBAFB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F9A2-7FEE-4D83-B448-79F9715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2B88-95BD-4D84-9AC5-C369E05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EA53-F9F0-42EB-863E-7C24B66D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0109-E99A-4D5F-9058-3BA6D973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94C-9CE5-4695-9B10-DA0B522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8D7D-C8D3-4BF2-B3EA-DC427B58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91D8-CE78-4BCD-B891-54D5E317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3122-11CA-4B94-BBAE-73BAD86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F783-DC74-414B-BAF8-9D3BCE3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FE5E-51BB-4335-A4BF-C81A7E7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8079F-5DA1-4DBA-8A4D-81EB521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6745-AF51-42C8-9E57-7D440B0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5843-6F98-4C8F-AC32-9DFDD30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01D6-6443-4DD1-B932-2566154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22597-0FCD-4D5E-9AD7-B6E9617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B1B-814C-4F4D-AA82-BBC3E1E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CC2B6-9F17-4ECD-80DB-1CA8318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D9BF-0312-46FB-A641-D2C21E40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05D7-8616-462A-BCB4-39972B7C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D869-1491-4BCC-A0D8-AC35D6CE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3EC2-8C33-4116-9E5E-403B759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B2C4-27F0-4EEC-BF6F-0048319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2E4E-6F9E-4B7F-8964-A5A4F8CC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6E62-CFE4-453D-9A83-CACEA75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2D945-0388-48C1-89D9-4F475B9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6BBA4-A229-4F48-BF69-4D7A581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D72-D504-4DFD-81AD-BBFABAD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1F94-6BC7-45B0-A22A-DF76CDE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AEBF-B8DF-44CE-B985-5274320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BE8B-9786-4218-9DC6-FFA03F3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1DC4B-1977-4961-ABC8-A2E6088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3C72-9787-4CE2-8A61-D57CE67B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924FD-1185-4447-B6E1-43E012F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FDA4-17E6-4288-8482-77D500C6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D7108-82C3-4B8F-A614-D3B5574E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9256F-EF81-459A-936E-0BD81DC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011A-70BB-4580-B1F5-08521D4E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BDB-C4A1-42CC-B1BA-7D9C6CE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276F-D0F0-43C5-83AD-9EAACDB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73AD-7F40-40FC-ADD2-3F15483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87E0-3B75-4556-BCC2-00B83C9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B23E-4263-4E76-BB6D-FD0CB12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1EF8-7F25-43F0-A5ED-778B67FC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E9FF-3CB2-4AAB-AC78-A44C345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F4BAA-4660-4021-A2B4-C115A6ED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6C4A-22B4-4E85-BE6F-DE3A97C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CF5E-03B7-438A-9AA6-46331DB2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4395E-D626-462C-8D53-DC54502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1092-B4CE-4151-8AC0-9D08CB48C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B1B-72C8-446E-BA7A-D9B3C08F5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274-609F-47B1-B755-37EAAACD0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69A-A682-46FA-B2CB-789522DEC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A67-16CE-425A-9075-B6F86444E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2E4-A046-4C21-B3DA-7D8599E15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8AF-4F65-432C-BC87-68F5BAC5E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ADAD-C602-4A75-A937-F49E98BEE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476-FBB4-4AB3-9AF7-CDB963614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3A7-446D-4BCC-8437-71A1BC9AD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2FD-073C-4133-B607-3913066AC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1B5-FD84-409F-9B92-3FCDA5314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175-5355-4699-817F-865CB2294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A5F6-820A-4B64-A6B3-38530439B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F86E-572F-469C-B1C6-D5946477C7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E8C5-D64E-4AC0-BB7A-522D20013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543-BF70-49A5-865D-40E30CEEB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E32-632A-4FFD-90DC-61C593560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578-86B6-4CD0-9661-6E2CDF819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1DC-9243-4D02-8E37-0D9D541ED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137-07C9-406B-86F1-E0E890AC2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C16-7494-41FC-8483-EE775DACD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FE4-59D9-43C3-A892-33303FE45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051-3B00-4B04-8CA9-6D4DC6172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0EB-74D3-4F65-9F60-7782205B6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324-66CD-45B3-8569-57759542E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21E1-74BF-4EA7-83F0-D66DB368C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6E90-FC5A-4A86-8929-5CA9D253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DB74-92B0-4FE3-930E-AF206C0DA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459-7D93-4443-806C-FFC0795B9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8EE-3286-4B3F-BFF8-4ADDA1B95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FA0-DB72-48AF-B8AD-B837259F4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38A2-90F1-4B31-B4F4-E64D30ABFD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0333-A530-4FAB-A6D8-3253BB5F5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D6F0-E46A-41E6-9FB2-A9D7A2660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D4EE-C9A3-475F-A626-9FB1654E5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9F7-BA0C-4F46-839E-0497BF6AF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9E8-C9B5-4E82-82FC-4616C2C08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180-20C8-4D22-A1A1-4D015397A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C079-1358-46CB-85A3-44DEE4F4F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2981160"/>
            <a:ext cx="914400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85640" y="895320"/>
            <a:ext cx="8172720" cy="50673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5002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40006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66560" y="1257480"/>
            <a:ext cx="8210880" cy="44575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12859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7860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66560" y="2185920"/>
            <a:ext cx="8210880" cy="24861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00080" y="221472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239320" cy="2076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8096400" cy="28479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 flipH="1">
            <a:off x="7143840" y="1606680"/>
            <a:ext cx="108576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 flipH="1">
            <a:off x="4857840" y="2571840"/>
            <a:ext cx="135720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 flipH="1">
            <a:off x="1785240" y="3571920"/>
            <a:ext cx="11430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 flipH="1">
            <a:off x="4694400" y="4079880"/>
            <a:ext cx="87768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 flipH="1">
            <a:off x="1821600" y="5035680"/>
            <a:ext cx="108612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0040" y="1219320"/>
            <a:ext cx="8143920" cy="44193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 flipH="1">
            <a:off x="2214000" y="228600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 flipH="1">
            <a:off x="3500280" y="2286000"/>
            <a:ext cx="8575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 flipH="1">
            <a:off x="4857840" y="2286000"/>
            <a:ext cx="10000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 flipH="1">
            <a:off x="1956600" y="3765600"/>
            <a:ext cx="7146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 flipH="1">
            <a:off x="3285360" y="371484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 flipH="1">
            <a:off x="5329080" y="3732120"/>
            <a:ext cx="5716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 flipH="1">
            <a:off x="1213560" y="471492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 flipH="1">
            <a:off x="2642400" y="471492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 flipH="1">
            <a:off x="6357240" y="4714920"/>
            <a:ext cx="5713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 flipH="1">
            <a:off x="7428960" y="471492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 flipH="1">
            <a:off x="1142280" y="5214960"/>
            <a:ext cx="10717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80960" y="1990800"/>
            <a:ext cx="8182080" cy="28764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 flipH="1">
            <a:off x="2285280" y="2500200"/>
            <a:ext cx="8571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 flipH="1">
            <a:off x="3571200" y="2500200"/>
            <a:ext cx="8571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 flipH="1">
            <a:off x="4929120" y="2500200"/>
            <a:ext cx="10000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 flipH="1">
            <a:off x="7646400" y="2535120"/>
            <a:ext cx="857160" cy="322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 flipH="1">
            <a:off x="856440" y="3000240"/>
            <a:ext cx="7858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 flipH="1">
            <a:off x="4143240" y="3986280"/>
            <a:ext cx="85752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 flipH="1">
            <a:off x="5571360" y="400068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 flipH="1">
            <a:off x="6786000" y="400068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47560" y="528480"/>
            <a:ext cx="8048880" cy="580104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 flipH="1">
            <a:off x="1142280" y="4940280"/>
            <a:ext cx="8571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 flipH="1">
            <a:off x="6571440" y="5421240"/>
            <a:ext cx="1071720" cy="301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0520" cy="5810400"/>
          </a:xfrm>
          <a:prstGeom prst="rect">
            <a:avLst/>
          </a:prstGeom>
          <a:ln w="0">
            <a:noFill/>
          </a:ln>
        </p:spPr>
      </p:pic>
      <p:sp>
        <p:nvSpPr>
          <p:cNvPr id="1063" name="矩形 2"/>
          <p:cNvSpPr/>
          <p:nvPr/>
        </p:nvSpPr>
        <p:spPr>
          <a:xfrm flipH="1">
            <a:off x="2000160" y="857160"/>
            <a:ext cx="85752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"/>
          <p:cNvSpPr/>
          <p:nvPr/>
        </p:nvSpPr>
        <p:spPr>
          <a:xfrm flipH="1">
            <a:off x="7786080" y="1357200"/>
            <a:ext cx="7858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 flipH="1">
            <a:off x="570960" y="1857240"/>
            <a:ext cx="8571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"/>
          <p:cNvSpPr/>
          <p:nvPr/>
        </p:nvSpPr>
        <p:spPr>
          <a:xfrm flipH="1">
            <a:off x="5285520" y="2357280"/>
            <a:ext cx="100044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6"/>
          <p:cNvSpPr/>
          <p:nvPr/>
        </p:nvSpPr>
        <p:spPr>
          <a:xfrm flipH="1">
            <a:off x="1213560" y="3286080"/>
            <a:ext cx="107172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"/>
          <p:cNvSpPr/>
          <p:nvPr/>
        </p:nvSpPr>
        <p:spPr>
          <a:xfrm flipH="1">
            <a:off x="4000680" y="378612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8"/>
          <p:cNvSpPr/>
          <p:nvPr/>
        </p:nvSpPr>
        <p:spPr>
          <a:xfrm flipH="1">
            <a:off x="1107360" y="4292640"/>
            <a:ext cx="1298520" cy="301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9"/>
          <p:cNvSpPr/>
          <p:nvPr/>
        </p:nvSpPr>
        <p:spPr>
          <a:xfrm flipH="1">
            <a:off x="6286680" y="4786200"/>
            <a:ext cx="100008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10"/>
          <p:cNvSpPr/>
          <p:nvPr/>
        </p:nvSpPr>
        <p:spPr>
          <a:xfrm flipH="1">
            <a:off x="6786000" y="5286240"/>
            <a:ext cx="8571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